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C09-C7CD-4F60-9F09-8C3B3A9B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262-1F29-41D0-8B1B-29FF1FB2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44B-6BEE-4725-8074-74A0910D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E00-E708-4F56-9001-D9615F70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94EA-5E1B-4C70-AA66-736F33C7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5005-369A-44FF-A054-8BF7F6BC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C9AF-9A0E-4581-8F0D-C789F9D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C00-F7F8-4D0F-86E5-E0CCB77A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AF17-60DC-4251-960D-87B31864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EE7-801A-49EE-892B-9ED033AA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E656-8B29-4876-8202-CE0D7BF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F9F-DAF2-4834-90A8-699E553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8E31-43E3-4851-AC20-5DB9A24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A46-FAE8-49E2-9B67-1AB77ED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97B4-1388-47DD-A6EA-9B36C3BF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D68-C0EE-4786-B53B-A1075C02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F43-955C-4B2A-8426-0BF15FDC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E02-942B-4D70-B9FE-BF3D691E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E74-37CA-46C8-8D88-314D1AD9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4E7-5031-49CC-ADC0-68F78503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B8A-9258-4066-A64A-0E638AF0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F02-CBDA-4883-B8F1-AB9C084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7F4-1B66-4C7D-B672-F211869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F4D-969F-45AB-962E-40350AF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06F0-2CDC-42D3-9D47-F35D3E49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6E9-082E-45C5-83C5-875D7F40C3B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lliam Shakespe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ing the B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ved from 1564-16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n in Stratford upon Av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rried Anne Hathaway in 158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ed to London to work as an actor in 15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 (cont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me popular quick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er bridged reig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I (1558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I (1603-16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his death, works quickly coll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 (cont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arl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entury, Shakespeare was regarded as most renowned playw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elieve Shakespeare did not write his own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ote 37 plays and 154 sonn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20:44:30Z</dcterms:created>
  <dc:creator>jvanengen</dc:creator>
  <dc:description/>
  <dc:language>en-US</dc:language>
  <cp:lastModifiedBy>Administrator</cp:lastModifiedBy>
  <dcterms:modified xsi:type="dcterms:W3CDTF">2012-01-05T17:27:34Z</dcterms:modified>
  <cp:revision>5</cp:revision>
  <dc:subject/>
  <dc:title>William Shakespeare</dc:title>
</cp:coreProperties>
</file>